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DB5-D2C0-4D1F-A67C-1840DA2A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2F2-34BA-4FF3-AF9C-22C97E7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F26-218F-443F-A0B6-6E09400B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6C6-282C-41D4-9D69-DCA5F398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7A6-7C9B-4B71-B6AB-1C64F720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10F-54A4-431B-845E-05B63AB6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1D5-8DAA-4BBE-8521-0E1A0C7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423-8EC1-47D2-9409-F6ADF71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C2E-C756-45B7-BFFF-A2DBCDC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95A-F17A-4352-86F6-3AFC961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01C-8FEA-440B-A241-2F4E20A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6ED-84A1-45E2-86DC-AD545D2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DC3C-8847-41E2-864C-0759275D8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aphicFrame>
        <p:nvGraphicFramePr>
          <p:cNvPr id="351" name="Object 18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52680" y="3276360"/>
            <a:ext cx="5105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SLIDE </a:t>
            </a:r>
            <a:r>
              <a:rPr b="1" i="1" lang="en-US" sz="4000" spc="-1" strike="noStrike">
                <a:solidFill>
                  <a:srgbClr val="0860d4"/>
                </a:solidFill>
                <a:latin typeface="Verdana"/>
              </a:rPr>
              <a:t>POWERPOINT</a:t>
            </a:r>
            <a:endParaRPr b="1" i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add your text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240" y="55850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549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17583"/>
                </a:gs>
                <a:gs pos="50000">
                  <a:srgbClr val="5ad9f2"/>
                </a:gs>
                <a:gs pos="100000">
                  <a:srgbClr val="31758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98a9a"/>
                </a:gs>
                <a:gs pos="100000">
                  <a:srgbClr val="5ad9f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562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5f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32156"/>
                  </a:srgbClr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886"/>
                </a:gs>
                <a:gs pos="50000">
                  <a:srgbClr val="2f85f7"/>
                </a:gs>
                <a:gs pos="100000">
                  <a:srgbClr val="19488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49d"/>
                </a:gs>
                <a:gs pos="100000">
                  <a:srgbClr val="2f85f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1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572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3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4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5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577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0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1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2f85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57150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Oval 34"/>
          <p:cNvSpPr/>
          <p:nvPr/>
        </p:nvSpPr>
        <p:spPr>
          <a:xfrm rot="20876400">
            <a:off x="354492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Oval 35"/>
          <p:cNvSpPr/>
          <p:nvPr/>
        </p:nvSpPr>
        <p:spPr>
          <a:xfrm>
            <a:off x="347652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Oval 36"/>
          <p:cNvSpPr/>
          <p:nvPr/>
        </p:nvSpPr>
        <p:spPr>
          <a:xfrm>
            <a:off x="3497400" y="383868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Oval 37"/>
          <p:cNvSpPr/>
          <p:nvPr/>
        </p:nvSpPr>
        <p:spPr>
          <a:xfrm>
            <a:off x="351468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Oval 38"/>
          <p:cNvSpPr/>
          <p:nvPr/>
        </p:nvSpPr>
        <p:spPr>
          <a:xfrm>
            <a:off x="360684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389448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Oval 40"/>
          <p:cNvSpPr/>
          <p:nvPr/>
        </p:nvSpPr>
        <p:spPr>
          <a:xfrm rot="20826600">
            <a:off x="1701720" y="4438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7" name="Group 41"/>
          <p:cNvGrpSpPr/>
          <p:nvPr/>
        </p:nvGrpSpPr>
        <p:grpSpPr>
          <a:xfrm>
            <a:off x="1625760" y="3448080"/>
            <a:ext cx="1371240" cy="1441080"/>
            <a:chOff x="1625760" y="3448080"/>
            <a:chExt cx="1371240" cy="1441080"/>
          </a:xfrm>
        </p:grpSpPr>
        <p:sp>
          <p:nvSpPr>
            <p:cNvPr id="598" name="Oval 42"/>
            <p:cNvSpPr/>
            <p:nvPr/>
          </p:nvSpPr>
          <p:spPr>
            <a:xfrm>
              <a:off x="162576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Oval 43"/>
            <p:cNvSpPr/>
            <p:nvPr/>
          </p:nvSpPr>
          <p:spPr>
            <a:xfrm>
              <a:off x="164340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Oval 44"/>
            <p:cNvSpPr/>
            <p:nvPr/>
          </p:nvSpPr>
          <p:spPr>
            <a:xfrm>
              <a:off x="165672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Oval 45"/>
            <p:cNvSpPr/>
            <p:nvPr/>
          </p:nvSpPr>
          <p:spPr>
            <a:xfrm>
              <a:off x="172836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46"/>
            <p:cNvSpPr/>
            <p:nvPr/>
          </p:nvSpPr>
          <p:spPr>
            <a:xfrm>
              <a:off x="190620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3" name="Oval 47"/>
          <p:cNvSpPr/>
          <p:nvPr/>
        </p:nvSpPr>
        <p:spPr>
          <a:xfrm>
            <a:off x="152388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4" name="Oval 48"/>
          <p:cNvSpPr/>
          <p:nvPr/>
        </p:nvSpPr>
        <p:spPr>
          <a:xfrm>
            <a:off x="1600200" y="20764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5" name="Oval 49"/>
          <p:cNvSpPr/>
          <p:nvPr/>
        </p:nvSpPr>
        <p:spPr>
          <a:xfrm>
            <a:off x="161280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Oval 50"/>
          <p:cNvSpPr/>
          <p:nvPr/>
        </p:nvSpPr>
        <p:spPr>
          <a:xfrm>
            <a:off x="162396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Oval 51"/>
          <p:cNvSpPr/>
          <p:nvPr/>
        </p:nvSpPr>
        <p:spPr>
          <a:xfrm>
            <a:off x="167796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Text Box 52"/>
          <p:cNvSpPr/>
          <p:nvPr/>
        </p:nvSpPr>
        <p:spPr>
          <a:xfrm>
            <a:off x="179712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Oval 53"/>
          <p:cNvSpPr/>
          <p:nvPr/>
        </p:nvSpPr>
        <p:spPr>
          <a:xfrm>
            <a:off x="279072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Oval 54"/>
          <p:cNvSpPr/>
          <p:nvPr/>
        </p:nvSpPr>
        <p:spPr>
          <a:xfrm>
            <a:off x="291312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Oval 55"/>
          <p:cNvSpPr/>
          <p:nvPr/>
        </p:nvSpPr>
        <p:spPr>
          <a:xfrm>
            <a:off x="2922480" y="16225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Oval 56"/>
          <p:cNvSpPr/>
          <p:nvPr/>
        </p:nvSpPr>
        <p:spPr>
          <a:xfrm>
            <a:off x="2928960" y="16286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Oval 57"/>
          <p:cNvSpPr/>
          <p:nvPr/>
        </p:nvSpPr>
        <p:spPr>
          <a:xfrm>
            <a:off x="2965320" y="16477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Text Box 58"/>
          <p:cNvSpPr/>
          <p:nvPr/>
        </p:nvSpPr>
        <p:spPr>
          <a:xfrm>
            <a:off x="298332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6" name="Freeform 4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7" name="Group 5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618" name="AutoShape 6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AutoShape 8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AutoShape 9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10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AutoShape 11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AutoShape 12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5" name="Text Box 13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2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62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63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64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5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65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66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67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67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67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68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68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69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69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69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69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69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70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1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71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71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71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1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71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72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73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73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73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73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73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74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5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75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760" name="AutoShape 90"/>
            <p:cNvCxnSpPr>
              <a:stCxn id="756" idx="3"/>
              <a:endCxn id="7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1" name="AutoShape 91"/>
            <p:cNvCxnSpPr>
              <a:stCxn id="757" idx="3"/>
              <a:endCxn id="7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76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ad9f2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ad9f2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76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7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8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7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2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84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7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7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8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9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2a6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0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791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4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5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5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838080" y="2286000"/>
          <a:ext cx="7467840" cy="3090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48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1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2f85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1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807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cecec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d9f2"/>
                </a:gs>
                <a:gs pos="100000">
                  <a:srgbClr val="44a4b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15dac"/>
                </a:gs>
                <a:gs pos="100000">
                  <a:srgbClr val="2f85f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8888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979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100000">
                  <a:srgbClr val="ff990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aa6600"/>
                </a:gs>
                <a:gs pos="100000">
                  <a:srgbClr val="ff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d9f2">
                    <a:alpha val="19215"/>
                  </a:srgbClr>
                </a:gs>
                <a:gs pos="100000">
                  <a:srgbClr val="91e6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Marketing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72"/>
              </a:gs>
              <a:gs pos="50000">
                <a:srgbClr val="2f85f7"/>
              </a:gs>
              <a:gs pos="100000">
                <a:srgbClr val="163e7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30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831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85098"/>
                  </a:srgbClr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35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838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85098"/>
                  </a:srgbClr>
                </a:gs>
                <a:gs pos="100000">
                  <a:srgbClr val="1e54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2260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2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4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845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ad9f2">
                    <a:alpha val="85098"/>
                  </a:srgbClr>
                </a:gs>
                <a:gs pos="100000">
                  <a:srgbClr val="398a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49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51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852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856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3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9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402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4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6470"/>
                </a:gs>
                <a:gs pos="100000">
                  <a:srgbClr val="5ad9f2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416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3670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9" name="WordArt 3"/>
          <p:cNvSpPr txBox="1"/>
          <p:nvPr/>
        </p:nvSpPr>
        <p:spPr>
          <a:xfrm>
            <a:off x="1905120" y="3657600"/>
            <a:ext cx="5715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85f7"/>
                    </a:gs>
                    <a:gs pos="100000">
                      <a:srgbClr val="1d528d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85f7"/>
                  </a:gs>
                  <a:gs pos="100000">
                    <a:srgbClr val="1d528d"/>
                  </a:gs>
                </a:gsLst>
                <a:lin ang="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8840" y="1535040"/>
            <a:ext cx="7824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f85f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d9f2"/>
              </a:gs>
              <a:gs pos="100000">
                <a:srgbClr val="cbf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43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43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447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1f4b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f85f7"/>
                </a:gs>
                <a:gs pos="100000">
                  <a:srgbClr val="0f2a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b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1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65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466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469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Text Box 18"/>
            <p:cNvSpPr/>
            <p:nvPr/>
          </p:nvSpPr>
          <p:spPr>
            <a:xfrm>
              <a:off x="4212720" y="1963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48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48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49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d9f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7583"/>
                  </a:gs>
                  <a:gs pos="50000">
                    <a:srgbClr val="5ad9f2"/>
                  </a:gs>
                  <a:gs pos="100000">
                    <a:srgbClr val="31758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15998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Text Box 23"/>
            <p:cNvSpPr/>
            <p:nvPr/>
          </p:nvSpPr>
          <p:spPr>
            <a:xfrm>
              <a:off x="15998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Text Box 24"/>
            <p:cNvSpPr/>
            <p:nvPr/>
          </p:nvSpPr>
          <p:spPr>
            <a:xfrm>
              <a:off x="15998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6697440" y="2856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Text Box 27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14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7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528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00"/>
                </a:gs>
                <a:gs pos="50000">
                  <a:srgbClr val="ff9900"/>
                </a:gs>
                <a:gs pos="100000">
                  <a:srgbClr val="76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6470"/>
                </a:gs>
                <a:gs pos="50000">
                  <a:srgbClr val="5ad9f2"/>
                </a:gs>
                <a:gs pos="100000">
                  <a:srgbClr val="2a6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d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63e72"/>
                </a:gs>
                <a:gs pos="50000">
                  <a:srgbClr val="2f85f7"/>
                </a:gs>
                <a:gs pos="100000">
                  <a:srgbClr val="163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96f00"/>
                </a:gs>
                <a:gs pos="5000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9db0"/>
                </a:gs>
                <a:gs pos="50000">
                  <a:srgbClr val="5ad9f2"/>
                </a:gs>
                <a:gs pos="100000">
                  <a:srgbClr val="419d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2f85f7"/>
                </a:gs>
                <a:gs pos="100000">
                  <a:srgbClr val="81b5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994f8"/>
                </a:gs>
                <a:gs pos="50000">
                  <a:srgbClr val="2f85f7"/>
                </a:gs>
                <a:gs pos="100000">
                  <a:srgbClr val="4994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a9a9a9"/>
                </a:gs>
                <a:gs pos="50000">
                  <a:srgbClr val="969696"/>
                </a:gs>
                <a:gs pos="100000">
                  <a:srgbClr val="a9a9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d528d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2f85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00"/>
              </a:gs>
              <a:gs pos="50000">
                <a:srgbClr val="ffb84d"/>
              </a:gs>
              <a:gs pos="100000">
                <a:srgbClr val="ff9900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50000">
                <a:srgbClr val="96bb8f"/>
              </a:gs>
              <a:gs pos="100000">
                <a:srgbClr val="699d5f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d9f2"/>
              </a:gs>
              <a:gs pos="50000">
                <a:srgbClr val="8ce4f6"/>
              </a:gs>
              <a:gs pos="100000">
                <a:srgbClr val="5ad9f2"/>
              </a:gs>
            </a:gsLst>
            <a:lin ang="27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2:21Z</dcterms:created>
  <dc:creator>Admin</dc:creator>
  <dc:description/>
  <dc:language>en-US</dc:language>
  <cp:lastModifiedBy>Nga</cp:lastModifiedBy>
  <dcterms:modified xsi:type="dcterms:W3CDTF">2017-09-15T08:58:44Z</dcterms:modified>
  <cp:revision>4</cp:revision>
  <dc:subject/>
  <dc:title>PowerPoint  Template</dc:title>
</cp:coreProperties>
</file>